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voltage.wav" ContentType="audio/x-wav"/>
  <Override PartName="/ppt/media/image2.png" ContentType="image/png"/>
  <Override PartName="/ppt/media/suction.wav" ContentType="audio/x-wav"/>
  <Override PartName="/ppt/media/laser.wav" ContentType="audio/x-wav"/>
  <Override PartName="/ppt/media/image3.wmf" ContentType="image/x-wmf"/>
  <Override PartName="/ppt/media/camera.wav" ContentType="audio/x-wav"/>
  <Override PartName="/ppt/media/bomb.wav" ContentType="audio/x-wav"/>
  <Override PartName="/ppt/media/click.wav" ContentType="audio/x-wav"/>
  <Override PartName="/ppt/media/hammer.wav" ContentType="audio/x-wav"/>
  <Override PartName="/ppt/media/push.wav" ContentType="audio/x-wav"/>
  <Override PartName="/ppt/media/breeze.wav" ContentType="audio/x-wav"/>
  <Override PartName="/ppt/media/applause.wav" ContentType="audio/x-wav"/>
  <Override PartName="/ppt/media/arrow.wav" ContentType="audio/x-wav"/>
  <Override PartName="/ppt/media/drumroll.wav" ContentType="audio/x-wav"/>
  <Override PartName="/ppt/media/image1.jpeg" ContentType="image/jpeg"/>
  <Override PartName="/ppt/media/wind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E34E-806C-405C-A51C-3E483366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5B8-ED02-4B42-B2A0-94324E89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C94-D9D3-4E62-8BC9-A31D0301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DB3-A870-4382-A0E6-808AABE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312-8FE7-4577-BCA5-20A5AF3D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2E9-3A23-4B30-999B-ECA5EA38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EFA-D9AD-451D-A666-0F87FC9D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CAD-8AAF-498A-A3A3-6F61604A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969-9573-492E-BA6B-28BEAED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445-BC9A-4489-AFDF-EEEDF60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AA1-C065-42B4-ACC9-0582BE6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794-5265-4860-BB2C-7A88B24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268-2BCD-4CD4-91C4-005F27C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55A-E15D-4F72-B468-726C07E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BF1C-5E74-4E53-998C-E9C216FD0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143000"/>
          <a:ext cx="8076960" cy="473868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371600"/>
                <a:gridCol w="1371600"/>
                <a:gridCol w="1218960"/>
                <a:gridCol w="13716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cabular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–A Home for Lif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 Change over Ti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dence for Evolu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ic Syst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6"/>
          <p:cNvSpPr/>
          <p:nvPr/>
        </p:nvSpPr>
        <p:spPr>
          <a:xfrm>
            <a:off x="-130320" y="284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2"/>
          <p:cNvSpPr/>
          <p:nvPr/>
        </p:nvSpPr>
        <p:spPr>
          <a:xfrm>
            <a:off x="54100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6284160" y="61038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3520" y="45720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think that this is what caused the Permian extinction 250 million years ago and how and why it may have happen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09480" y="236232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hat is what is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arth’s land masses joining togethe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causing 90% of the species in the ocean and many land dwelling animals to di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The formation of one big continent changed the climate and conditions in the oce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3520" y="22860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when, why and how scientists think the Cretaceous extinction happened and what disappear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354480"/>
            <a:ext cx="693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65 million years ago scientists think that an asteroid hit the Earth which caused a climate change and the dinosaurs disappeared?  After the dinosaurs died out, many new mammals began appear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09480" y="990720"/>
            <a:ext cx="7467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ve age of a fossil tells yo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hether one fossil is older or younger than another foss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xactly when a fossil was form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mount of radioactivity in a foss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w long the fossilized organism was alive on Ear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4572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A, whether one fossil is older or younger than another fossil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3520" y="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marck proposed that species evolve becaus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dapt to their surroundings over tim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pass on traits acquired during their lifetimes to their offspr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verproduce and a variety of species come from each offspr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ws decide when they should chang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9320" y="4495680"/>
            <a:ext cx="626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B, they can pass on traits acquired during their lifetimes to their offspr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4920" y="838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ichlid population in Lake Tanganyika was separated into isolated groups, 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r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vari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fossi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pe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rtificial selec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83240" y="518148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B, speciation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22860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Lamarck, could the parents of the tortoise from Abingdon Island be born with a short neck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4952880"/>
            <a:ext cx="74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yes, they could have stretched their necks during their lives and then passed on that trait to their offspring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3657600" y="3124080"/>
            <a:ext cx="4351320" cy="1755720"/>
            <a:chOff x="3657600" y="3124080"/>
            <a:chExt cx="4351320" cy="1755720"/>
          </a:xfrm>
        </p:grpSpPr>
        <p:sp>
          <p:nvSpPr>
            <p:cNvPr id="89" name="AutoShape 6"/>
            <p:cNvSpPr/>
            <p:nvPr/>
          </p:nvSpPr>
          <p:spPr>
            <a:xfrm>
              <a:off x="3657600" y="312408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3657600" y="312408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2286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ow variation and adaptation may have led to the development of long-necked tortoises on Abingdon Is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743200" y="2819520"/>
            <a:ext cx="4351320" cy="1755720"/>
            <a:chOff x="2743200" y="2819520"/>
            <a:chExt cx="4351320" cy="1755720"/>
          </a:xfrm>
        </p:grpSpPr>
        <p:sp>
          <p:nvSpPr>
            <p:cNvPr id="93" name="AutoShape 5"/>
            <p:cNvSpPr/>
            <p:nvPr/>
          </p:nvSpPr>
          <p:spPr>
            <a:xfrm>
              <a:off x="2743200" y="281952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6" descr=""/>
            <p:cNvPicPr/>
            <p:nvPr/>
          </p:nvPicPr>
          <p:blipFill>
            <a:blip r:embed="rId1"/>
            <a:stretch/>
          </p:blipFill>
          <p:spPr>
            <a:xfrm>
              <a:off x="2743200" y="281952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685800" y="685800"/>
            <a:ext cx="84582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offspring of the ancestors of present-day tortoises on Abingdon island differed from each other in small way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of these variations was likely neck length. The tortoises competed with one another for leave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better adapted tortoises, with long necks, survived and reproduced at a higher rate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fore, long-necked tortoises became more widesprea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4572000" y="304920"/>
            <a:ext cx="4351320" cy="1755720"/>
            <a:chOff x="4572000" y="304920"/>
            <a:chExt cx="4351320" cy="1755720"/>
          </a:xfrm>
        </p:grpSpPr>
        <p:sp>
          <p:nvSpPr>
            <p:cNvPr id="98" name="AutoShape 6"/>
            <p:cNvSpPr/>
            <p:nvPr/>
          </p:nvSpPr>
          <p:spPr>
            <a:xfrm>
              <a:off x="4572000" y="30492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Picture 7" descr=""/>
            <p:cNvPicPr/>
            <p:nvPr/>
          </p:nvPicPr>
          <p:blipFill>
            <a:blip r:embed="rId1"/>
            <a:stretch/>
          </p:blipFill>
          <p:spPr>
            <a:xfrm>
              <a:off x="4572000" y="30492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8"/>
          <p:cNvSpPr/>
          <p:nvPr/>
        </p:nvSpPr>
        <p:spPr>
          <a:xfrm>
            <a:off x="304920" y="304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Answer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80880" y="609480"/>
            <a:ext cx="83822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zard and a bat have similar forelimbs, but they are used in different ways.  This is evidence that supports the theory of evolution by___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ficial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d characterist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y of struct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5334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similarity of structure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04920" y="304920"/>
            <a:ext cx="830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following pairs of organisms will have the most similar gen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and flow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er and bacteriu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um and hum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and tr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95160" y="495288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a, tree and flower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520" y="3808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s of organisms preserved in the earth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52480" y="3657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 flipV="1" rot="10800000">
            <a:off x="2285640" y="38851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is a fossi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0880" y="68580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why structure A in the diagram to the right is an example of a vestigial org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871640" y="419112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the whale leg is a structure that was fully developed in whale ancestors; now it has become reduced and unused in modern whale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whale and common ancestors"/>
          <p:cNvPicPr/>
          <p:nvPr/>
        </p:nvPicPr>
        <p:blipFill>
          <a:blip r:embed="rId1"/>
          <a:stretch/>
        </p:blipFill>
        <p:spPr>
          <a:xfrm>
            <a:off x="4691160" y="228600"/>
            <a:ext cx="44528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09480" y="762120"/>
            <a:ext cx="419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B, C, and D are forearms of different animals share a common ancestor.  What type of biological evidence is thi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057400" y="5303880"/>
            <a:ext cx="611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similar structures with different functio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whale and common ancestors"/>
          <p:cNvPicPr/>
          <p:nvPr/>
        </p:nvPicPr>
        <p:blipFill>
          <a:blip r:embed="rId1"/>
          <a:stretch/>
        </p:blipFill>
        <p:spPr>
          <a:xfrm>
            <a:off x="4691160" y="228600"/>
            <a:ext cx="44528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43000" y="76212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types of evidence that scientists use to support the theory of evolu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3276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are by observation, fossil evidence, biological evidence, and genetic evidenc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fa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im’s rob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46480" y="3124080"/>
            <a:ext cx="28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ob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752480" y="121932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ecambrian time refers t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000" y="3657600"/>
            <a:ext cx="81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earliest period in Earth's histor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2120" y="83808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 to the caps on plastic bottl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11400" y="3886200"/>
            <a:ext cx="70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ake them off before recyc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990720" y="120024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four renewable resourc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3733920"/>
            <a:ext cx="80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unlight, wind, water, trees and other plants, and animal was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066680" y="1066680"/>
            <a:ext cx="670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ship that Darwin travelled to the Galapagos Islands 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07520" y="3657600"/>
            <a:ext cx="36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752480" y="120024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entimeters in one 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889280" y="3706920"/>
            <a:ext cx="30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10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imeters in one kilo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113560" y="344808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100,00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66680" y="9144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duced and unused physical structure in an organism, which was more developed in an earlier group of organism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76840" y="4572000"/>
            <a:ext cx="58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a vestigial org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imeters in one 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496240" y="329580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is 1,000 m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66680" y="137160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meters to measure out 365 years where 1cm = 1 ye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86760" y="414504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3.65 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752480" y="12002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entimeters in three and a half me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0" y="3276720"/>
            <a:ext cx="3886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35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8600" y="152280"/>
            <a:ext cx="8686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nes of a whale flipper (left) are similar to the bones of a bat wing (right) as shown in the illustration below. What does this similarity in bone structure suggest about the whale and the ba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572000" cy="3956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572000" y="32767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use the same methods to trave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migrate to the same loca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volved from a common ances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manipulate objects in the same w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Jeopardy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. They evolved from a common ances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533520"/>
            <a:ext cx="693432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pulation of a species becomes physically separated into two populations for a period of time.  Later these populations come together and are not able to breed.  This is an example of__________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83600" y="5105520"/>
            <a:ext cx="44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speciatio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30492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d the forelimb adaptations represented by structures B, C, and 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4648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natural selectio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whale and common ancestors"/>
          <p:cNvPicPr/>
          <p:nvPr/>
        </p:nvPicPr>
        <p:blipFill>
          <a:blip r:embed="rId1"/>
          <a:stretch/>
        </p:blipFill>
        <p:spPr>
          <a:xfrm>
            <a:off x="4952880" y="228600"/>
            <a:ext cx="419112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828800" y="762120"/>
            <a:ext cx="61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gment or section of DNA that relates to a specific trait or function of an organis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83600" y="4343400"/>
            <a:ext cx="36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a gen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2193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52480" y="38098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insects, reptiles, and mammal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50840" y="16178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rrect order that mammals, insects and reptiles appeared on 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135720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multicellular organisms appeared this many years ag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mil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3.8 bill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 mil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1.2 bill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D – 1.2 bill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76212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Permian Extinction, about _______ of the species living in the ocean became extinc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50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1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38080" y="464832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A. 90%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3:32:56Z</dcterms:created>
  <dc:creator>Groton Public Schools</dc:creator>
  <dc:description/>
  <dc:language>en-US</dc:language>
  <cp:lastModifiedBy>ddwyer</cp:lastModifiedBy>
  <dcterms:modified xsi:type="dcterms:W3CDTF">2009-12-18T20:11:57Z</dcterms:modified>
  <cp:revision>39</cp:revision>
  <dc:subject/>
  <dc:title>PowerPoint Presentation</dc:title>
</cp:coreProperties>
</file>